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774-8070-4C86-A9DD-2B249DFD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5F4-5554-4E42-8ED4-BAFF3341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DC7-7DED-4994-8BA7-6BA9297E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886-ADA1-4B39-A130-2076D1EF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506E-8FBD-4A33-ADE5-EB35E2D0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5A0D-B7C9-4250-A572-74D10C81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6376-5785-473E-8481-F4CAD785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3CA0-4DE0-4BAE-8617-923352E6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43EC-F7B5-40A0-9F63-5A5C1317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AB13-0E51-4F18-9C3F-77AB6499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57AC-60E9-4417-8257-10EE671E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40B-C9D8-4F76-A1ED-3A76071E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CF22-3430-4EF9-B48A-D21EA0D8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0736-2AC7-4ACE-BF09-52C857B1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77AB-748F-4EEC-95BE-2A1D3F06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7502-8E95-414E-9C1D-18E45494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0B29-136B-44BD-8299-FDE40DFB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401-0675-48E8-9BF9-22FC6DC7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4A6-7893-4565-8CFA-8F9950E9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302-84E7-4646-960D-37E36C9F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23F-F51A-4A7F-98DF-85F32AC0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6CE-C7B6-4597-9FD7-10F006E1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C3A-022B-422F-B368-AFF34319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773-8CE2-472F-8E3F-3B1D0448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A3F4-D8C0-452C-A8FA-3934CF9C91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5830-34FD-47F7-B937-8CAAE18D39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ревенција заразних боле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усмерене прем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утевима пренош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довно прање ру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езбедити довољну количину хигијенски исправне воде за све потребе (пиће, кување, купање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езбедити хигијенске услове за чување, транспорт и обраду намир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градња канализационе мре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декватно отклањање отпадних материја (комунални отпад, медицински отпад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фикасно сузбијање му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респираторних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363760"/>
            <a:ext cx="8229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пецифичне мере превенције респираторних заразних болести већег су значаја у односу на опште ме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резервоарима зара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резервоара заразе у превенцији респираторних болести код којих постоји хронично клицоноштво (дифтерија, шарлах и друге стрептококозе) тј. истражива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утевима ширења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утеви преношења респиратор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пљ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иректни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директни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утевима ширења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бегавање груписања људи у затвореним просториј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оветрав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лажно чишћење простор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бегавање пољубаца са инфицираном особ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ње посуђа и прибора за је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ње и дезинфекција играчака (дечја обданишт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потреба папирних марам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ошење маски (вишеслојн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Прекривају нос и у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е носе се дуже од три сата (овлажене не дају заштит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акон употребе се бацај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икада се поново не кори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ошење заштитних наоч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начајно у спречавању ширења респираторних обољења у болничкој среди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резервоарима зара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зервоар векторске заразне болести животи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домаћ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ништавање глод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зервоар векторске заразне болести чов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малар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путу зараз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вект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ништавање в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 Превенција болести које се преносе вашима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узбијање вашљивости-елиминација пегавог тифу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путу зараз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вект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ништавање в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комарцима (маларија, жута грозница, денга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прскање инсектицидима просторија у којима се налазе људи и животи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исушивање влажних тере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заштита од вектора (мреже на прозорима и вратим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комарцим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ношење репелената (одбијају инсекте) на кож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ревенција заразних боле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иљ: онемогућавање настанка услова за појаву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преко крпеља (Лајмска болест, крпељски менингоенцефалитис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бегавање кретања кроз високу тр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ошење дугих панталона и дугих рук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аскрчивање терена од густе вегетације при камповању и логоровањ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антропозооно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радња ветеринарске и здравствене служ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мањење учесталости оболевања код животи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нтрола промета животињ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Одржавање хигијенских услова у просторијама где се животиње држ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Вакцин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Леч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зависе од путева ширења односно од улазног места аген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6240" y="1913040"/>
            <a:ext cx="80038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Опш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пецифич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пште мере превенције заразних боле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е односе се на једно одређено обоље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ристе се у спречавању појаве св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личне су за обољења која припадају истој групи (према епидемиолошкој класификациј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су према свим карикама ланца инфе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пецифичне мере превенције заразних боле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дносе се на превенцију одређене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ухватај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кцинациј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еропрофилак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емиопрофилак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ају највећи значај у превенцији црев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према окривању резервоа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према путевима преноше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код којих постоји хронично клицоноштво (трбушни тифус, бациларна дизентерија) усмерене прем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откривању резервоара зараз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(клицоноше) у хуманој популац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даљавање клицоноша са радних места (запослени у производњи, преради и дистрибуцији хране или снабдевању становништва водом за пић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код којих постоји хронично клицоноштво усмерене прем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откривању резервоара зараз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(клицоноше) међу животињ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резервоара (клицонош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брана коришћења продуката оболел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усмерене прем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утевима преношењ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утеви преношења црев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сек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0:55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