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6D1-3338-42B6-8C09-7237E566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FC1-7F35-405B-BC26-AC50D986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D7D-690E-4BB2-8A82-DFE11CD5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B32-2EE2-487C-A6A6-11D8504B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C991-9245-4A82-AE93-7E39CE5C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C8C4-E97A-429D-B77F-87562E28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6807-7B78-45E7-A239-6DCD15BA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C3D9-4981-43D4-A76C-05042633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0501-951A-48A8-9771-21F90E05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A6DB-8539-4BAC-84F9-B9220041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91C-6FC4-4641-8B5F-67317597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310-F9E9-4FBF-86BB-F2C9A9A7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448A-B00E-48C4-8C19-9B7C852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AC93-E84D-496E-8423-35BA336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B221-265C-4F8C-A58C-A80CABBC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3959-F00F-4007-8F31-3A833013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4C40-C2FD-45C9-B160-CB8A7EFF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38E-1C54-44FB-A4A1-6AE9B4FB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8B7-B96A-4237-95CF-523C291A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87A-1C17-4508-BEE1-04DF7E71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EAA-7A54-4E33-8A4C-FF78B6EC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767-1E22-4A73-9F19-8C6889F4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2A7-F1E5-43C0-A7E6-1D6642E2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08A-5248-47DB-9B18-ED662C7A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9A06-B91D-4923-9C3B-CC274AEF1E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68BB-8B74-42C3-8034-72C27D7C02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Превенција поремећаја здрављ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Мере примарне превенције усмерене 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шту популацију (потреба за физичком активношћу која одговара узрасту)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им њеним сегментима (вакцинација одојчади или заштита деце школског узрас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за што раније откривање већ насталих поремећаја здравља (откривање особа са већ узнапредовалом болешћу који су измакли пажњи здравствене служб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: успостављање нарушеног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нижавање преваленције одговарајуће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олели (жртве болести) тј. повређене осо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рининг, самопреглед, систематски  прегле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секундарне превенције се прелиминар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двајају особе за које постоји сумња да су оболеле (дефинитивна дијагноза је у домену клиничке медицин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толошки процес је већ одмака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о излечење више није могу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Мере терцијарне превенције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719360"/>
            <a:ext cx="7924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оштећења и неспособности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рехабилитације и навикавање пацијента на настало ст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нижава се учесталост компликација и умир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жртв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довни контролни прегле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хабилитација (физичка и психич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да проте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ремећаји здравља од којих се данас највише оболева и умир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рди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еребр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алигне неоплаз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рауматиз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структивна болест плу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Личне навике и начин живота које утичу на учесталост најчешћих поремеђаја здрављ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ше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храна богата мастима животињског поре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еран унос алкохо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суство физичке а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изична вож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ронични стр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учне основе, дилеме и ограничења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пидемиолошка истраживања (интервентне или опсервационе студије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снов за одлучивање о избору превентивн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знања о факторима ризика за настанак најважнијих поремећаја здравља (болести срца и крв. судова, малигне неиоплазм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ктивности и мере везане 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напређе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чува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спостављање здравља које је наруше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пречавање или одлагање неповољног тока и исхода иреверзибилних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ратегија превентивног ра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гменти (у оперативном погледу) превентивне дела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. сагледавање епидемиолошке ситу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2. интер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евалуација ефикасности интервенциј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Сагледавање епидемиолошке ситуације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ид у стање и динамику расподеле болести и здравља у попула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е системом епидемиолошког надз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лив поузданих информација важ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уга традиција праћења заразних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ложеност макро и микро срединским ризици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пажње само на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ајугроженије сегмент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опулациј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даје ефек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нат оболевања је највећи у групи особа најизложенијих одређеном штетном фактори, али је учешће те групе у структури те популације ма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јвећи број оболелих се региструје из категорије грађана који имају 5 х нижи ризик али којих је 20 х ви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и редовно лечење свих хипертоничар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→инциденција апоплексије би се смањила за 1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росечно снижење хипертензије за 5 % → инциденција апоплексије опада за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553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315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Борба против поремећаја здравља пре њиховог клиничког испоља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тивна медиц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 се на поступке који су у опсегу здравствене сл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емиопрофилак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блем клицоно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болести скринин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штита вулнерабилних група становни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Јавно здравство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евентивна делатност која је у надлежности целе друштвене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ивање микробиолошки и хемијски исправне воде за пи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езбедан систем одвођења и третирања отпадних во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игијенско уклањање сме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рба против аерозагађења и бу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ола производње, ускладиштења и промета животних намир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ржавање екосистема у стању равноте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ивои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рциј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пори да се у одређену средину уопште не унесе штетна навика, обичај или облик понаш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ходи превен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група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оизашла из епидемиолошких сазнања 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исокој учесталости КВБ у деловима света где исхрана садржи много масти животињског порекла (Финс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иској учесталости КВБ у подручјима где су засићене масти мање заступљене у исхрани (Јапан-чест висок притисак и други фактори ризика за КВ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упци који се предузимају пре појаве болести и повреда како до њих уопште не би дош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ктивности усмерене ка унапређењу и очувању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примарне превенције снижава се инцид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0:53:40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