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0B2-CC22-4E40-87B2-A7EA88C2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6DC-6C6D-4C7C-8E48-C335982B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5694-F638-4513-8EB0-C9C1DDBF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D0E-C43C-480D-9517-5B42074F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6836-7661-4A8F-AE44-EE4B30A4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C196-1C75-4A43-BD48-02BA2429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BD87-6373-4D4A-8156-64B9A1D0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3836-9223-49A2-A137-23F2E1DC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70C8-770A-4196-89AB-A9FA6854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50EC-1451-43A6-9AEB-739EC928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841D-3EF1-4361-A941-476A44F4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872-CEBF-42E7-9545-09E9EE87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87AD-C55B-4485-90F4-1EAA6C51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4C02-BEA1-4012-B4BF-84A60757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665E-5F30-403E-9707-79206CBB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0305-5A57-4433-8514-64680EF7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2EA9-532B-4443-AF59-AC44DB11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29E-C43C-4DC8-AF55-191F6132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38E-FA95-4F28-8E13-F2525DB8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13F-5B3F-446E-BF54-C85D8A85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E4F-0124-4557-9A49-CD2DD36D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111-3453-4AC3-A737-F81E9DA5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018E-E516-42D3-A64D-78C73CA5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707-7ABA-4155-9E98-C84873B7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251A-7BDD-410F-B36C-D7E1448D0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4236-9539-4F6D-A3EC-B8EFD0933B0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700" spc="-1" strike="noStrike">
                <a:solidFill>
                  <a:srgbClr val="ffffcc"/>
                </a:solidFill>
                <a:latin typeface="Arial"/>
              </a:rPr>
              <a:t>Превенција-ниво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Начини спровођења мера примарне превенције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Активни приступ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(подразумева промене понашањ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Коришћење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заштитних средстава на рад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Примена вакцина у превенцији неких зараз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Начини спровођења мера примарне превенције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Пасивни приступ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(не захтева промену понашања, једноставнији за спровођење)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- флуоризација вод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- додавање витамина појединим намирницам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Циљ примарне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Снижење инциденције болести контролом узрочних фактора (фактора ризик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Циљ примарне превенциј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римарна превенција зависи од промена у понашању већине попула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Роузова “теорема”- изложеност великог броја људи малом ризику може довести до много више оболелих него изложеност малог броја људи високом ризик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Стратегије примарног нивоа превенциј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опулацио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Индивидуал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Предност популационог приступа превенциј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232704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НЕ захтева идентификацију појединаца са високим ризи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НЕ захтева идентификацију група са високим ризи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ffcc"/>
                </a:solidFill>
                <a:uFillTx/>
                <a:latin typeface="Arial"/>
              </a:rPr>
              <a:t>Недостатак</a:t>
            </a: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 популационог приступа превенциј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Не мора да буде од велике користи појединцу, с обзиром на низак степен његовог индивидуалног ризик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ревентивни парадокс 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Нека превентивна мера доноси велику корист популацији, не мора истовремено да користи сваком њеном појединачном члан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екундарна превенција и мер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Рано откривање болести и адекватна терапиј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Циљ: заустављање напредовања боле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Време примене: фаза патогенезе боле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Ефикаснија код обољења која у природној историји имају период који се лако открива и леч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Спречава прогресију обољења у озбиљне стадијуме у којима су терапијске могућности мал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Услови који треба да буду испуњени да би секундарна превенција била ефикасн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Сигуран и безбедан метод откривања болести (ако је могуће у преклиничкој фаз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Ефикасан метод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Терцијарна превенција-мер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3818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Циљ: смањење неспособно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Примена епидемиолошких истраживања у области превенциј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зналажење могућности за ефикасну интервенцију у појединим 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Arial"/>
              </a:rPr>
              <a:t>фазама природног тока болести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(развој болести од почетних фаза до исход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Период препатогенез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Период патогенез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Опоравак, неспособност, смртни исх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Систем епидемиолошког надз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роцес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Евалуација ефикасности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Систем епидемиолошког надз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рикупљање информација које имају за циљ сагледавање учесталости и дистрибуције болести и здравља у популациј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Процес интервенције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заснован 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индивидуалном приступ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опулационом приступ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комбинацији оба (са етичког аспекта најприхватљивиј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Евалуација ефикасности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континуирани проце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утиче на предлагање нових мера пре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Евалуација превентивних програм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6104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Рутински подаци здравствене статистик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Различити типови епидемиолошких студиј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Евалуација превентивних програм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отребна због процене њихове оправданост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одразумева однос уложених средстава и очекиваног ефекта на здравствено стање попула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Нивои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6705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римордијалн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римарн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Секундарн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Терцијарни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ретходи или се поклапа са примарним нивоом пре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оследица је пораста укупног знања у области изучавања етиологије незараз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Циљ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Спречити да се у некој популацији успоставе обрасци понашања у социјалној, економској и културној сфери живота који доводе до повећања ризика од појаве поједи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Arial"/>
              </a:rPr>
              <a:t>Примарна превенциј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редуз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умева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низ мера и поступака у периоду препатогенез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Циљ-смањење могућности за појаву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Мере примарне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Здравствено васпитање о штетности појединих факт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штетности дувана (фактор ризика за малигне туморе, КВБ, респираторна обољењ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штетности прекомерне употребе алкохо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Мере примарне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значају коришћења неких намирница (воће и поврће) које имају заштитну улогу у етиологији неких обољењ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вакцинама против неких зараз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Начини спровођења мера примарне превенције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25142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Актив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асив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7-01-09T11:03:3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